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801A-052C-44D7-AA69-104C033F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92B-FDA9-434E-8AEF-736C2970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37D-B288-46F8-B86E-2B4282E9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E7C-9A0E-47D5-BFBA-2C698AE7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2884-86B1-44DF-B5E2-90017A72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5E6-239F-474D-B6BD-2F9EFBDB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65B-7156-4986-9FBA-25F51912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5186-4C9C-44E7-A19E-1B4E0317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31D-4232-43D1-9548-9004CD7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0C7-A150-4B6A-8FE3-294012E6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B2B-826F-4A07-B9C5-0E758534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072-757B-4CEA-B300-79071E68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D12-6D21-4328-AABE-BD4F56542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Creating your own Superhe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39434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1655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205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0600" y="57240"/>
            <a:ext cx="4762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81280" y="600120"/>
            <a:ext cx="37814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You’ll need a cost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4060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58920" y="901800"/>
            <a:ext cx="48261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63680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1050840"/>
            <a:ext cx="548640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You’ll need a theme</a:t>
            </a:r>
            <a:br>
              <a:rPr sz="4000"/>
            </a:br>
            <a:r>
              <a:rPr b="1" lang="en-US" sz="3200" spc="-1" strike="noStrike">
                <a:solidFill>
                  <a:srgbClr val="cc3399"/>
                </a:solidFill>
                <a:latin typeface="Comic Sans MS"/>
              </a:rPr>
              <a:t>(and decide on your character’s pow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66880" y="457200"/>
            <a:ext cx="4021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911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666880" y="787320"/>
            <a:ext cx="38102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033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Adobe Garamond Pro Bold"/>
              </a:rPr>
              <a:t>Your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Garamond Pro Bold"/>
              </a:rPr>
              <a:t>Brainstorm at least </a:t>
            </a:r>
            <a:r>
              <a:rPr b="0" lang="en-US" sz="2800" spc="-1" strike="noStrike">
                <a:solidFill>
                  <a:srgbClr val="bbe0e3"/>
                </a:solidFill>
                <a:latin typeface="Adobe Garamond Pro Bold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Adobe Garamond Pro Bold"/>
              </a:rPr>
              <a:t> possible themes – then choose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dobe Garamond Pro Bold"/>
              </a:rPr>
              <a:t>Brainstorm at least </a:t>
            </a:r>
            <a:r>
              <a:rPr b="0" lang="en-US" sz="2800" spc="-1" strike="noStrike">
                <a:solidFill>
                  <a:srgbClr val="cc3399"/>
                </a:solidFill>
                <a:latin typeface="Adobe Garamond Pro Bold"/>
              </a:rPr>
              <a:t>10</a:t>
            </a:r>
            <a:r>
              <a:rPr b="0" lang="en-US" sz="2800" spc="-1" strike="noStrike">
                <a:solidFill>
                  <a:srgbClr val="ffff00"/>
                </a:solidFill>
                <a:latin typeface="Adobe Garamond Pro Bold"/>
              </a:rPr>
              <a:t> possible names for your character – then choose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dobe Garamond Pro Bold"/>
              </a:rPr>
              <a:t>Sketch at least </a:t>
            </a:r>
            <a:r>
              <a:rPr b="0" lang="en-US" sz="2800" spc="-1" strike="noStrike">
                <a:solidFill>
                  <a:srgbClr val="bbe0e3"/>
                </a:solidFill>
                <a:latin typeface="Adobe Garamond Pro Bold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dobe Garamond Pro Bold"/>
              </a:rPr>
              <a:t> possible costume designs for your character – then choos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dobe Garamond Pro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dobe Garamond Pro Bold"/>
              </a:rPr>
              <a:t>Draw </a:t>
            </a:r>
            <a:r>
              <a:rPr b="0" lang="en-US" sz="2800" spc="-1" strike="noStrike">
                <a:solidFill>
                  <a:srgbClr val="cc3399"/>
                </a:solidFill>
                <a:latin typeface="Adobe Garamond Pro Bold"/>
              </a:rPr>
              <a:t>one</a:t>
            </a:r>
            <a:r>
              <a:rPr b="0" lang="en-US" sz="2800" spc="-1" strike="noStrike">
                <a:solidFill>
                  <a:srgbClr val="ffff00"/>
                </a:solidFill>
                <a:latin typeface="Adobe Garamond Pro Bold"/>
              </a:rPr>
              <a:t> version of your completed character in cost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752400"/>
            <a:ext cx="3810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79224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470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87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You’ll need a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90760" y="136440"/>
            <a:ext cx="4362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9463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6:01:43Z</dcterms:created>
  <dc:creator>ASB</dc:creator>
  <dc:description/>
  <dc:language>en-US</dc:language>
  <cp:lastModifiedBy>ASB</cp:lastModifiedBy>
  <dcterms:modified xsi:type="dcterms:W3CDTF">2008-03-10T06:57:09Z</dcterms:modified>
  <cp:revision>12</cp:revision>
  <dc:subject/>
  <dc:title>Creating your own Superhero</dc:title>
</cp:coreProperties>
</file>